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8524B1-FBF6-4282-8663-F2AE16259B4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E7A8A3-F007-436D-A7F3-0D70778BB8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0661FD-4BD9-44CC-8003-71B4CC710F7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93B44F-B1F5-4C3B-82DC-EF17D3B2AF8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C39254-69A3-444B-AFB6-F656807380D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A3FB9C-4ACD-411A-A09E-0AB2D1406D2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E27D7A-15BC-4AC2-A2EC-C1A9C81E665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AAB1F2-16E7-4A97-95BB-05BC280914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E461D0-2A0C-4F72-8C60-0E0E0C0B468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E9015A-040D-475D-ADD5-1F5FD14B4A9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1A55D1-7638-48D7-817C-BDBE3A3077C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4C6-B39A-4B95-859F-94B57099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A68-1EB0-4210-A341-9DEECF73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5E3-6DE9-4B58-929F-08A2C826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F43-1A7A-425B-89EC-A72DBE70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FAAC-BD5C-45B5-8771-B0F348B5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AF3D-F71C-47C9-B392-BA9ABE4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C143-66A1-4A4A-889D-B18B6998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8317-F5EC-4661-A96D-92F64B3C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2A0-E9BF-45ED-A6FE-831AA558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C95-FFB2-4FDD-B9A6-912E9F6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2DDD-0C31-4376-BABB-AECBBA1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EE9-4813-42CF-8075-A83097E4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E538-8A98-4F15-9D1B-91BC0308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9A2E-A2B2-463C-B01D-D76BDC8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29F7-7D99-479A-82DA-7851886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5AF-48B1-46F6-9035-0B9C186F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CF99-5185-4771-8A3F-E4E5944C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D05-35A6-49D7-928F-F9F0873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359-7176-42AB-9060-B65C8726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5EC-FEA4-4437-BCFB-D73CD3B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DE0-3118-477A-A964-DB2FEE51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6F2-D7C4-40DA-90F4-BCE094D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2A8-B6D4-427C-920B-4335A65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8C7-B717-4588-BF64-F76A645C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612-B4CF-4D01-BC6A-E5DFAF872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1BD4-62E8-4C67-85D0-061A9ED6B12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1, 20.2 and 20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rvers mapped to unit circ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download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new download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0"/>
          <p:cNvGrpSpPr/>
          <p:nvPr/>
        </p:nvGrpSpPr>
        <p:grpSpPr>
          <a:xfrm>
            <a:off x="4143240" y="3857760"/>
            <a:ext cx="4954320" cy="2285640"/>
            <a:chOff x="4143240" y="3857760"/>
            <a:chExt cx="4954320" cy="2285640"/>
          </a:xfrm>
        </p:grpSpPr>
        <p:sp>
          <p:nvSpPr>
            <p:cNvPr id="140" name="Text Box 8"/>
            <p:cNvSpPr/>
            <p:nvPr/>
          </p:nvSpPr>
          <p:spPr>
            <a:xfrm>
              <a:off x="4581720" y="3875040"/>
              <a:ext cx="412812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ne old to the new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Prob item goes to a server is 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ny server gets  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143240" y="3857760"/>
              <a:ext cx="4954320" cy="2285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 (+ hadoop)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80360" cy="174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3851280" y="5667480"/>
            <a:ext cx="4981680" cy="11905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613440" y="59500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Lucida Sans"/>
              </a:rPr>
              <a:t>+ page storage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over a Grap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the Graph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wTie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 changes (insert, delete) &gt;&gt; 50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-entries in adj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? How much to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parallelize the proc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does it mean to crawl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ad8c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05" name="Straight Arrow Connector 13"/>
          <p:cNvCxnSpPr>
            <a:stCxn id="102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6" name="Straight Arrow Connector 14"/>
          <p:cNvCxnSpPr>
            <a:stCxn id="101" idx="4"/>
            <a:endCxn id="104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7" name="Straight Arrow Connector 12"/>
          <p:cNvCxnSpPr>
            <a:stCxn id="102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108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ge sel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file has been parsed or 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fter 20 mil pages, we have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ver 200 milli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URL is at least 100 bytes on 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Overall we have about 20Gb of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ptions:  compress URLs in main memory, or use dis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Mercator,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so, two-level indexing with Front-coding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Link Extracto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Downloaders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 of lif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120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121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2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23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4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125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128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ks are given to Central coordinator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?bottleneck?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download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500880" y="155736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download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owloader x fetch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2-02T14:40:48Z</dcterms:modified>
  <cp:revision>1189</cp:revision>
  <dc:subject/>
  <dc:title>Web Algorithmics</dc:title>
</cp:coreProperties>
</file>